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E67-8FF5-4D14-8AD2-26DEF8D5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91F-D5E3-402F-8F88-D1B2EA0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17E-F68B-4307-B7AD-3A2785E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8FA-AAA1-44EA-86C6-459CE671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F73-9054-4C10-838F-0BD18A1F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AED-4CE6-4FFD-B803-50AEB618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A0D-375A-48D0-8458-EFFACC8E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FC8-33DC-4876-87D7-DA3292D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B6D-4F96-4C5D-A896-3EAEF890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0FC-FF8E-4EBA-8195-A2713DB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3A8-4A00-43F7-8BB5-64BFF62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17-1436-469B-8470-66DE735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18F-BCA1-43CA-B909-97EC0877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000" y="692280"/>
            <a:ext cx="85485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781200"/>
            <a:ext cx="83707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41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65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06560" y="1441440"/>
            <a:ext cx="3530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9760" y="584280"/>
            <a:ext cx="86630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17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29:08Z</dcterms:created>
  <dc:creator>Penelope Morel</dc:creator>
  <dc:description/>
  <dc:language>en-US</dc:language>
  <cp:lastModifiedBy>Penelope Morel</cp:lastModifiedBy>
  <dcterms:modified xsi:type="dcterms:W3CDTF">2008-08-21T14:39:21Z</dcterms:modified>
  <cp:revision>1</cp:revision>
  <dc:subject/>
  <dc:title>NK cell ontology</dc:title>
</cp:coreProperties>
</file>